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13" spc="-1" strike="noStrike">
                <a:solidFill>
                  <a:srgbClr val="000000"/>
                </a:solidFill>
                <a:latin typeface="Arial"/>
              </a:defRPr>
            </a:pPr>
            <a:r>
              <a:rPr b="0" sz="2013" spc="-1" strike="noStrike">
                <a:solidFill>
                  <a:srgbClr val="000000"/>
                </a:solidFill>
                <a:latin typeface="Arial"/>
              </a:rPr>
              <a:t>Ezequiel Balbino</a:t>
            </a:r>
          </a:p>
        </c:rich>
      </c:tx>
      <c:layout>
        <c:manualLayout>
          <c:xMode val="edge"/>
          <c:yMode val="edge"/>
          <c:x val="0.387032006613913"/>
          <c:y val="0.020058174766694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811070430298"/>
          <c:y val="0.120470246030784"/>
          <c:w val="0.751112160938546"/>
          <c:h val="0.83917100957459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Ezequiel Balbino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2009 março</c:v>
                </c:pt>
                <c:pt idx="1">
                  <c:v>2009 abril</c:v>
                </c:pt>
                <c:pt idx="2">
                  <c:v>2009 maio</c:v>
                </c:pt>
                <c:pt idx="3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6.96</c:v>
                </c:pt>
                <c:pt idx="1">
                  <c:v>30.83</c:v>
                </c:pt>
                <c:pt idx="2">
                  <c:v>91.41</c:v>
                </c:pt>
                <c:pt idx="3">
                  <c:v>97.5</c:v>
                </c:pt>
              </c:numCache>
            </c:numRef>
          </c:val>
        </c:ser>
        <c:gapWidth val="100"/>
        <c:overlap val="0"/>
        <c:axId val="37635479"/>
        <c:axId val="33145355"/>
      </c:barChart>
      <c:catAx>
        <c:axId val="3763547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45355"/>
        <c:crossesAt val="0"/>
        <c:auto val="1"/>
        <c:lblAlgn val="ctr"/>
        <c:lblOffset val="100"/>
        <c:noMultiLvlLbl val="0"/>
      </c:catAx>
      <c:valAx>
        <c:axId val="33145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3547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9118932325499"/>
          <c:y val="0.4552781481032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3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155" spc="-1" strike="noStrike">
                <a:solidFill>
                  <a:srgbClr val="000000"/>
                </a:solidFill>
                <a:latin typeface="Arial"/>
              </a:defRPr>
            </a:pPr>
            <a:r>
              <a:rPr b="0" sz="3155" spc="-1" strike="noStrike">
                <a:solidFill>
                  <a:srgbClr val="000000"/>
                </a:solidFill>
                <a:latin typeface="Arial"/>
              </a:rPr>
              <a:t>Ezequiel Balbino 2009</a:t>
            </a:r>
          </a:p>
        </c:rich>
      </c:tx>
      <c:layout>
        <c:manualLayout>
          <c:xMode val="edge"/>
          <c:yMode val="edge"/>
          <c:x val="0.291366481634581"/>
          <c:y val="0.020054441419921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04755718279"/>
          <c:y val="0.145714126992945"/>
          <c:w val="0.731309790953112"/>
          <c:h val="0.81417699016721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3</c:v>
                </c:pt>
                <c:pt idx="1">
                  <c:v>120</c:v>
                </c:pt>
                <c:pt idx="2">
                  <c:v>138</c:v>
                </c:pt>
                <c:pt idx="3">
                  <c:v>120</c:v>
                </c:pt>
                <c:pt idx="4">
                  <c:v>42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17</c:v>
                </c:pt>
                <c:pt idx="1">
                  <c:v>37</c:v>
                </c:pt>
                <c:pt idx="2">
                  <c:v>117</c:v>
                </c:pt>
                <c:pt idx="3">
                  <c:v>117</c:v>
                </c:pt>
                <c:pt idx="4">
                  <c:v>288</c:v>
                </c:pt>
              </c:numCache>
            </c:numRef>
          </c:val>
        </c:ser>
        <c:gapWidth val="100"/>
        <c:overlap val="0"/>
        <c:axId val="22949364"/>
        <c:axId val="48185986"/>
      </c:barChart>
      <c:catAx>
        <c:axId val="2294936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85986"/>
        <c:crossesAt val="0"/>
        <c:auto val="1"/>
        <c:lblAlgn val="ctr"/>
        <c:lblOffset val="100"/>
        <c:noMultiLvlLbl val="0"/>
      </c:catAx>
      <c:valAx>
        <c:axId val="48185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4936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71190110625566"/>
          <c:y val="0.39986667407366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941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2F4-6187-47DB-B3ED-52055586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0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137-191A-4535-A7B2-003BA904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D2B-EC24-4CD1-9D4F-AF29645F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67A-8AF0-40F4-A5D4-D4E09A8B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8920" y="42840"/>
            <a:ext cx="705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F2C-530C-4B54-9751-2AD12078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876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0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876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77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0520" y="22032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77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0520" y="4347000"/>
            <a:ext cx="273564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C4F-9864-47B1-9B45-1D8FB01A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E18-2135-4FE4-BBDD-C1CFE5AA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42C-3F67-4FA2-85F3-9B84A7E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8920" y="42840"/>
            <a:ext cx="705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88A-C9EC-4228-8E16-53046AAE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7D6-7530-436D-B7DE-3055F9E5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43470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C7F-BB6C-444E-917B-A92145FE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2203200"/>
            <a:ext cx="41461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000"/>
            <a:ext cx="849636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756-15C1-4AEE-9690-9E0875B7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200" y="6435720"/>
            <a:ext cx="11602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9/07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560" y="6435720"/>
            <a:ext cx="52560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82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933E8C-CF57-453F-A991-CCFFC8718B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2840"/>
            <a:ext cx="705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6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home/welitton/Documentos/segundo%20semestre%2009/Reuni&#245;es/Cronograma%20-%20PNTE.doc" TargetMode="External"/><Relationship Id="rId3" Type="http://schemas.openxmlformats.org/officeDocument/2006/relationships/hyperlink" Target="file:///home/welitton/Documentos/segundo%20semestre%2009/Reuni&#245;es/Cronograma%20-%20PSTE.doc" TargetMode="External"/><Relationship Id="rId4" Type="http://schemas.openxmlformats.org/officeDocument/2006/relationships/hyperlink" Target="file:///home/welitton/Documentos/segundo%20semestre%2009/Reuni&#245;es/Cronograma%20-%20completo.doc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32000" y="1197000"/>
            <a:ext cx="648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EZEQUIEL BALBINO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NAURILÂNDIA - 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300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2920" y="-6336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ados conclu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917640"/>
          <a:ext cx="9144000" cy="594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360360"/>
          <a:ext cx="9144000" cy="64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-322200"/>
            <a:ext cx="70567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3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ronograma de ação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0"/>
            <a:ext cx="70567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3760" y="174600"/>
            <a:ext cx="885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RONOGRAMA DO PLANO DE AÇÃO DOS PSTEs DA EE EZEQUIEL BALB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160" y="596880"/>
          <a:ext cx="9093240" cy="6261120"/>
        </p:xfrm>
        <a:graphic>
          <a:graphicData uri="http://schemas.openxmlformats.org/drawingml/2006/table">
            <a:tbl>
              <a:tblPr/>
              <a:tblGrid>
                <a:gridCol w="3720960"/>
                <a:gridCol w="3213360"/>
                <a:gridCol w="2158920"/>
              </a:tblGrid>
              <a:tr h="367920"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Ê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290520"/>
                          <a:tab algn="l" pos="2959200"/>
                          <a:tab algn="l" pos="297972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internet como ferramenta de pesqu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subsídio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3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290520"/>
                          <a:tab algn="l" pos="2959200"/>
                          <a:tab algn="l" pos="297972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Impress, e como preparar aulas para ser trabalhada com o Data Sh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subsídio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290520"/>
                          <a:tab algn="l" pos="2959200"/>
                          <a:tab algn="l" pos="297972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 básico de informática – movie m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subsídio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U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290520"/>
                          <a:tab algn="l" pos="2959200"/>
                          <a:tab algn="l" pos="297972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s avançados –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subsídio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290520"/>
                          <a:tab algn="l" pos="2959200"/>
                          <a:tab algn="l" pos="297972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sos avançados – wikisp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erecer subsídio para apoio nas atividades pedagógic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ZEM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fessores Emidio e Eduar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63640" y="-111240"/>
            <a:ext cx="705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227664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94172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720720"/>
            <a:ext cx="9144000" cy="61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03280" y="-179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71720" y="50720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213372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157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720720"/>
            <a:ext cx="8099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6840" y="2798640"/>
            <a:ext cx="25131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485640"/>
            <a:ext cx="914400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0360" y="-24300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71760" y="4929120"/>
            <a:ext cx="3000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486900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720720"/>
            <a:ext cx="914400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-179280"/>
            <a:ext cx="705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680" y="471492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227664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5157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9180360" cy="630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0:53:38Z</dcterms:created>
  <dc:creator>Luciana Catarino</dc:creator>
  <dc:description/>
  <dc:language>en-US</dc:language>
  <cp:lastModifiedBy>Luciana Catarino</cp:lastModifiedBy>
  <dcterms:modified xsi:type="dcterms:W3CDTF">2009-07-28T20:01:25Z</dcterms:modified>
  <cp:revision>24</cp:revision>
  <dc:subject/>
  <dc:title>EE BRAZ SINIGÁGLIA BATAYPORÃ - MS</dc:title>
</cp:coreProperties>
</file>